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Catherine Pilachowsk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773C-A718-48DE-B8EC-81F410A1D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A7C-4E85-45B0-BED8-D3A3CB44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F2F-FD34-402E-B703-AE3C05B2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673-AF55-41C9-A14C-6F7F4AEC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F20-7184-4760-9E69-56DB4851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EE7-246F-43F0-9E81-F9F47FBD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CA9-D239-4BDC-A00E-4758D64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1A1-73DA-43DA-8174-9695846A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526-2976-49EC-AC46-D04C80D0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93680" y="274680"/>
            <a:ext cx="6692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3C1-9755-4156-9669-251068E1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16C-8A9D-42E7-A0CF-A243E50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4CA-887A-4D2E-9883-80B1E177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D00-9ADA-46A6-9804-D7D54D86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2280" y="6487920"/>
            <a:ext cx="26496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a50021"/>
                </a:solidFill>
                <a:latin typeface="Comic Sans MS"/>
              </a:rPr>
              <a:t>Pilachowski / August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1480" y="6514920"/>
            <a:ext cx="1219320" cy="3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Slide </a:t>
            </a:r>
            <a:fld id="{17B0253B-725E-43EF-A916-14DA9B600EA8}" type="slidenum"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3405240" y="6619680"/>
            <a:ext cx="2511360" cy="126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2063880" y="1262160"/>
            <a:ext cx="665136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ssc.spitzer.caltech.ed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2280" y="269640"/>
            <a:ext cx="76629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e in the Infr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000" y="3593880"/>
            <a:ext cx="743436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Spitzer Space Telescope, and how does it wo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367080" y="1711440"/>
            <a:ext cx="52434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All about Spitz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" name="Picture 5" descr="spitzer_logo_color_small"/>
          <p:cNvPicPr/>
          <p:nvPr/>
        </p:nvPicPr>
        <p:blipFill>
          <a:blip r:embed="rId1"/>
          <a:stretch/>
        </p:blipFill>
        <p:spPr>
          <a:xfrm>
            <a:off x="250920" y="5659560"/>
            <a:ext cx="274320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378600" y="616752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unded by NASA’s Spitzer Science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977080" y="6613560"/>
            <a:ext cx="258264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062240" y="5527800"/>
            <a:ext cx="46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ages courtesy NASA/JPL - Calte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sirtf_09_2002_small"/>
          <p:cNvPicPr/>
          <p:nvPr/>
        </p:nvPicPr>
        <p:blipFill>
          <a:blip r:embed="rId2"/>
          <a:stretch/>
        </p:blipFill>
        <p:spPr>
          <a:xfrm>
            <a:off x="198360" y="212760"/>
            <a:ext cx="1652760" cy="113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58" name="Нижний колонтитул 9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3680" y="380520"/>
            <a:ext cx="46767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ing Spitzer C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599840"/>
            <a:ext cx="42098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scope operates at 5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" descr="feature200308-3small"/>
          <p:cNvPicPr/>
          <p:nvPr/>
        </p:nvPicPr>
        <p:blipFill>
          <a:blip r:embed="rId1"/>
          <a:stretch/>
        </p:blipFill>
        <p:spPr>
          <a:xfrm>
            <a:off x="5253120" y="1371600"/>
            <a:ext cx="3424320" cy="5151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1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7960" y="2655720"/>
            <a:ext cx="419724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-  Spitzer is itself a black body radiator, and must be colder than the astronomical sources it det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82480" y="4386240"/>
            <a:ext cx="3713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shield/solar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shell insulates and cools the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31600" y="608040"/>
            <a:ext cx="741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ing Spitzer’s Instruments Even C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Cryostat"/>
          <p:cNvPicPr/>
          <p:nvPr/>
        </p:nvPicPr>
        <p:blipFill>
          <a:blip r:embed="rId1"/>
          <a:stretch/>
        </p:blipFill>
        <p:spPr>
          <a:xfrm>
            <a:off x="0" y="0"/>
            <a:ext cx="17366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ryostat"/>
          <p:cNvPicPr/>
          <p:nvPr/>
        </p:nvPicPr>
        <p:blipFill>
          <a:blip r:embed="rId2"/>
          <a:stretch/>
        </p:blipFill>
        <p:spPr>
          <a:xfrm>
            <a:off x="216000" y="2637000"/>
            <a:ext cx="2770200" cy="33829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8" name="Picture 13" descr="Diagram 2"/>
          <p:cNvPicPr/>
          <p:nvPr/>
        </p:nvPicPr>
        <p:blipFill>
          <a:blip r:embed="rId3"/>
          <a:stretch/>
        </p:blipFill>
        <p:spPr>
          <a:xfrm>
            <a:off x="3189240" y="2187720"/>
            <a:ext cx="5837400" cy="41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1840" y="1434600"/>
            <a:ext cx="69865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nk of liquid helium is used to keep Spitzer’s instruments and detectors at 1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94040" y="579240"/>
            <a:ext cx="4613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320" y="1600200"/>
            <a:ext cx="7964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AC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3.6, 4.5, 5.8, and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ctro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-IR spectros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ib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tomet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z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24, 70, and 1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MIC"/>
          <p:cNvPicPr/>
          <p:nvPr/>
        </p:nvPicPr>
        <p:blipFill>
          <a:blip r:embed="rId1"/>
          <a:stretch/>
        </p:blipFill>
        <p:spPr>
          <a:xfrm>
            <a:off x="709560" y="3567240"/>
            <a:ext cx="760248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432200" y="36147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0080" y="584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38920" y="580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Array Camera (IRA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Various Views of IRAC in Assembly"/>
          <p:cNvPicPr/>
          <p:nvPr/>
        </p:nvPicPr>
        <p:blipFill>
          <a:blip r:embed="rId1"/>
          <a:stretch/>
        </p:blipFill>
        <p:spPr>
          <a:xfrm>
            <a:off x="5078520" y="1776240"/>
            <a:ext cx="380988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RAC Conceptual Layout"/>
          <p:cNvPicPr/>
          <p:nvPr/>
        </p:nvPicPr>
        <p:blipFill>
          <a:blip r:embed="rId2"/>
          <a:stretch/>
        </p:blipFill>
        <p:spPr>
          <a:xfrm>
            <a:off x="316080" y="3197160"/>
            <a:ext cx="442260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RAC - Infrared Array Camera for the Spitzer Space Telescope"/>
          <p:cNvPicPr/>
          <p:nvPr/>
        </p:nvPicPr>
        <p:blipFill>
          <a:blip r:embed="rId3"/>
          <a:stretch/>
        </p:blipFill>
        <p:spPr>
          <a:xfrm>
            <a:off x="282600" y="430200"/>
            <a:ext cx="1471680" cy="8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05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Smithsonian Astrophysical Observa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taneous images in four IR pass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469800"/>
            <a:ext cx="479412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Spectro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3520" y="4898880"/>
            <a:ext cx="48067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Cornell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oscopy in the mid-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IRS&amp;Jeff1s"/>
          <p:cNvPicPr/>
          <p:nvPr/>
        </p:nvPicPr>
        <p:blipFill>
          <a:blip r:embed="rId1"/>
          <a:stretch/>
        </p:blipFill>
        <p:spPr>
          <a:xfrm>
            <a:off x="384120" y="3952800"/>
            <a:ext cx="3319560" cy="2210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8" name="Picture 5" descr="IRS Diagram"/>
          <p:cNvPicPr/>
          <p:nvPr/>
        </p:nvPicPr>
        <p:blipFill>
          <a:blip r:embed="rId2"/>
          <a:stretch/>
        </p:blipFill>
        <p:spPr>
          <a:xfrm>
            <a:off x="2936880" y="1492200"/>
            <a:ext cx="5745240" cy="3000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9" name="Picture 9" descr="IRS Logo"/>
          <p:cNvPicPr/>
          <p:nvPr/>
        </p:nvPicPr>
        <p:blipFill>
          <a:blip r:embed="rId3"/>
          <a:stretch/>
        </p:blipFill>
        <p:spPr>
          <a:xfrm>
            <a:off x="311040" y="239760"/>
            <a:ext cx="142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band Imaging Photometer for Spitzer (M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MIPS Diagram"/>
          <p:cNvPicPr/>
          <p:nvPr/>
        </p:nvPicPr>
        <p:blipFill>
          <a:blip r:embed="rId1"/>
          <a:stretch/>
        </p:blipFill>
        <p:spPr>
          <a:xfrm>
            <a:off x="1092240" y="1366920"/>
            <a:ext cx="3965400" cy="364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mpmips4.JPG (177820 bytes)"/>
          <p:cNvPicPr/>
          <p:nvPr/>
        </p:nvPicPr>
        <p:blipFill>
          <a:blip r:embed="rId2"/>
          <a:stretch/>
        </p:blipFill>
        <p:spPr>
          <a:xfrm rot="18955800">
            <a:off x="4808160" y="2949120"/>
            <a:ext cx="3822840" cy="2521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44" name="Picture 10" descr="patchfnl2.jpg (17379 bytes)"/>
          <p:cNvPicPr/>
          <p:nvPr/>
        </p:nvPicPr>
        <p:blipFill>
          <a:blip r:embed="rId3"/>
          <a:stretch/>
        </p:blipFill>
        <p:spPr>
          <a:xfrm>
            <a:off x="360360" y="1904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200" y="4868640"/>
            <a:ext cx="48751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detector arr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x128 pixel Si:As for 24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x32 pixel Ge:Ga for 7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20 pixel Ge:Ga for 16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72120" y="138600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University  of Ariz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4040" y="536040"/>
            <a:ext cx="516888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tzer Focal Pla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4092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tzer instruments are arranged in fixed locations on the Spitzer focal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lescope is rotated to move a particular science target to the right position for the instrument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instruments record data for “serendipitous”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focalplane_ch2"/>
          <p:cNvPicPr/>
          <p:nvPr/>
        </p:nvPicPr>
        <p:blipFill>
          <a:blip r:embed="rId4"/>
          <a:stretch/>
        </p:blipFill>
        <p:spPr>
          <a:xfrm>
            <a:off x="4902120" y="1417680"/>
            <a:ext cx="3810240" cy="496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IC"/>
          <p:cNvPicPr/>
          <p:nvPr/>
        </p:nvPicPr>
        <p:blipFill>
          <a:blip r:embed="rId5"/>
          <a:srcRect l="54739" t="0" r="0" b="0"/>
          <a:stretch/>
        </p:blipFill>
        <p:spPr>
          <a:xfrm>
            <a:off x="352440" y="174600"/>
            <a:ext cx="159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4032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SSC Home Page"/>
          <p:cNvPicPr/>
          <p:nvPr/>
        </p:nvPicPr>
        <p:blipFill>
          <a:blip r:embed="rId1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lue and Red Diagram of Spitzer"/>
          <p:cNvPicPr/>
          <p:nvPr/>
        </p:nvPicPr>
        <p:blipFill>
          <a:blip r:embed="rId2"/>
          <a:stretch/>
        </p:blipFill>
        <p:spPr>
          <a:xfrm>
            <a:off x="4270320" y="1865160"/>
            <a:ext cx="4481640" cy="410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680" y="5958000"/>
            <a:ext cx="636912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spitzer.caltech.edu/about/now.s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11040" y="492912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Spitzer Do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serve.mpeg" descr=""/>
          <p:cNvPicPr/>
          <p:nvPr/>
        </p:nvPicPr>
        <p:blipFill>
          <a:blip r:embed="rId3"/>
          <a:stretch/>
        </p:blipFill>
        <p:spPr>
          <a:xfrm>
            <a:off x="328680" y="1468440"/>
            <a:ext cx="3751200" cy="2813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54878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nfrared Satell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first"/>
          <p:cNvPicPr/>
          <p:nvPr/>
        </p:nvPicPr>
        <p:blipFill>
          <a:blip r:embed="rId1"/>
          <a:stretch/>
        </p:blipFill>
        <p:spPr>
          <a:xfrm>
            <a:off x="214200" y="4573440"/>
            <a:ext cx="2805120" cy="1683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254160" y="1682640"/>
            <a:ext cx="283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schel Space Observat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a European Space Agency infrared-submillimeter mission planned for 2007 to study galaxy formation, interstellar matter, star formation and the atmospheres of comets and planet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planck"/>
          <p:cNvPicPr/>
          <p:nvPr/>
        </p:nvPicPr>
        <p:blipFill>
          <a:blip r:embed="rId2"/>
          <a:stretch/>
        </p:blipFill>
        <p:spPr>
          <a:xfrm>
            <a:off x="3728880" y="1519200"/>
            <a:ext cx="1352880" cy="1666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5222880" y="1484280"/>
            <a:ext cx="35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nck Surveyo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European Space Agency far infrared-submillimeter mission planned for 2007 to study Cosmic Background Radi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48160" y="3646800"/>
            <a:ext cx="30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1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James Webb Space Telescope, planned for launch in about 2011, is a visible/infrared space mission to study the early universe and the formation of galaxies, stars and plane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5" descr="ngst"/>
          <p:cNvPicPr/>
          <p:nvPr/>
        </p:nvPicPr>
        <p:blipFill>
          <a:blip r:embed="rId3"/>
          <a:stretch/>
        </p:blipFill>
        <p:spPr>
          <a:xfrm>
            <a:off x="6550200" y="3579840"/>
            <a:ext cx="2417760" cy="2759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67" name="Picture 17" descr="MCj02327650000[1]"/>
          <p:cNvPicPr/>
          <p:nvPr/>
        </p:nvPicPr>
        <p:blipFill>
          <a:blip r:embed="rId4"/>
          <a:stretch/>
        </p:blipFill>
        <p:spPr>
          <a:xfrm>
            <a:off x="409680" y="206280"/>
            <a:ext cx="1069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3680" y="446040"/>
            <a:ext cx="26384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84240" y="1600200"/>
            <a:ext cx="68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R Telesco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0" descr="Hubble Against Earth's Horizon"/>
          <p:cNvPicPr/>
          <p:nvPr/>
        </p:nvPicPr>
        <p:blipFill>
          <a:blip r:embed="rId1"/>
          <a:stretch/>
        </p:blipFill>
        <p:spPr>
          <a:xfrm>
            <a:off x="449280" y="1477800"/>
            <a:ext cx="2190600" cy="1462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3040" y="5314680"/>
            <a:ext cx="59911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is the final spacecraft in NASA's Great Observatories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8" descr="AXAF-smaller2"/>
          <p:cNvPicPr/>
          <p:nvPr/>
        </p:nvPicPr>
        <p:blipFill>
          <a:blip r:embed="rId2"/>
          <a:stretch/>
        </p:blipFill>
        <p:spPr>
          <a:xfrm>
            <a:off x="450720" y="4903920"/>
            <a:ext cx="2202120" cy="1412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69" name="Picture 5" descr="sirtf_09_2002_small"/>
          <p:cNvPicPr/>
          <p:nvPr/>
        </p:nvPicPr>
        <p:blipFill>
          <a:blip r:embed="rId3"/>
          <a:stretch/>
        </p:blipFill>
        <p:spPr>
          <a:xfrm>
            <a:off x="3176640" y="1495440"/>
            <a:ext cx="5205240" cy="35877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70" name="Picture 12" descr="CGRO Cartoon"/>
          <p:cNvPicPr/>
          <p:nvPr/>
        </p:nvPicPr>
        <p:blipFill>
          <a:blip r:embed="rId4"/>
          <a:stretch/>
        </p:blipFill>
        <p:spPr>
          <a:xfrm>
            <a:off x="423720" y="3137040"/>
            <a:ext cx="2210040" cy="15843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71" name="Text Box 13"/>
          <p:cNvSpPr/>
          <p:nvPr/>
        </p:nvSpPr>
        <p:spPr>
          <a:xfrm>
            <a:off x="459000" y="259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ST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45240" y="4378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ton GRO 19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1520" y="59436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ndra 199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Full White"/>
          <p:cNvPicPr/>
          <p:nvPr/>
        </p:nvPicPr>
        <p:blipFill>
          <a:blip r:embed="rId5"/>
          <a:srcRect l="20720" t="16750" r="17934" b="19830"/>
          <a:stretch/>
        </p:blipFill>
        <p:spPr>
          <a:xfrm>
            <a:off x="527040" y="214200"/>
            <a:ext cx="11239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4040" y="618840"/>
            <a:ext cx="438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2120" y="1663200"/>
            <a:ext cx="3422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he Spitzer Space Telescope is a cryogenically cooled, infrared observatory in spa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can study objects ranging from our Solar System to the distant reaches of the Univer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6" descr="xsirtf_08_2002_small"/>
          <p:cNvPicPr/>
          <p:nvPr/>
        </p:nvPicPr>
        <p:blipFill>
          <a:blip r:embed="rId1"/>
          <a:stretch/>
        </p:blipFill>
        <p:spPr>
          <a:xfrm>
            <a:off x="3879720" y="1663560"/>
            <a:ext cx="4934160" cy="43419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0" name="Picture 7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ir_launch_3"/>
          <p:cNvPicPr/>
          <p:nvPr/>
        </p:nvPicPr>
        <p:blipFill>
          <a:blip r:embed="rId1"/>
          <a:stretch/>
        </p:blipFill>
        <p:spPr>
          <a:xfrm>
            <a:off x="905040" y="1474920"/>
            <a:ext cx="6502320" cy="4876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3680" y="552600"/>
            <a:ext cx="19875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85480" y="1584360"/>
            <a:ext cx="3227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aunched from KSC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5 August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ife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.5 years (minimum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5+ years (go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feature200308-4small"/>
          <p:cNvPicPr/>
          <p:nvPr/>
        </p:nvPicPr>
        <p:blipFill>
          <a:blip r:embed="rId2"/>
          <a:stretch/>
        </p:blipFill>
        <p:spPr>
          <a:xfrm>
            <a:off x="5451480" y="395280"/>
            <a:ext cx="3192480" cy="464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6" name="Picture 5" descr="SSC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354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4760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space telescopes orbit the Ea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orbits the Sun - trailing the Earth as it moves around the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is receding from Earth at 9.3 million miles (15 million kilometers) per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now trails the Earth in its orbit by about 20 million miles (~ 32 million kilomet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2008, Spitzer will be about 56 million miles or 90 million kilometers 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arth_trailing2small"/>
          <p:cNvPicPr/>
          <p:nvPr/>
        </p:nvPicPr>
        <p:blipFill>
          <a:blip r:embed="rId3"/>
          <a:stretch/>
        </p:blipFill>
        <p:spPr>
          <a:xfrm>
            <a:off x="5892840" y="404640"/>
            <a:ext cx="2609640" cy="1960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2" name="orbit.mpeg" descr=""/>
          <p:cNvPicPr/>
          <p:nvPr/>
        </p:nvPicPr>
        <p:blipFill>
          <a:blip r:embed="rId4"/>
          <a:stretch/>
        </p:blipFill>
        <p:spPr>
          <a:xfrm>
            <a:off x="5013360" y="3021120"/>
            <a:ext cx="3948120" cy="2962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566640"/>
            <a:ext cx="46148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for Lyman Spit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240" y="1641240"/>
            <a:ext cx="39639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yman Spitzer was the driving force behind H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ed the study of the interstellar med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ied interstellar dust and star 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Lyman Spitzer, Jr."/>
          <p:cNvPicPr/>
          <p:nvPr/>
        </p:nvPicPr>
        <p:blipFill>
          <a:blip r:embed="rId1"/>
          <a:stretch/>
        </p:blipFill>
        <p:spPr>
          <a:xfrm>
            <a:off x="541440" y="1677960"/>
            <a:ext cx="3440160" cy="4373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7" name="Picture 6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6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5918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config1"/>
          <p:cNvPicPr/>
          <p:nvPr/>
        </p:nvPicPr>
        <p:blipFill>
          <a:blip r:embed="rId1"/>
          <a:stretch/>
        </p:blipFill>
        <p:spPr>
          <a:xfrm>
            <a:off x="1184400" y="1374840"/>
            <a:ext cx="7356240" cy="49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4040" y="274680"/>
            <a:ext cx="3644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itzer Spe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irr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85 cm (33.5”) dia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ightweight bery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f/12 curv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eigh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elescope: 851.5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e cryogen: 50.4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propellent: 15.6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mirror_tech"/>
          <p:cNvPicPr/>
          <p:nvPr/>
        </p:nvPicPr>
        <p:blipFill>
          <a:blip r:embed="rId1"/>
          <a:stretch/>
        </p:blipFill>
        <p:spPr>
          <a:xfrm>
            <a:off x="4800600" y="1371600"/>
            <a:ext cx="3784680" cy="50767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06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4:40:01Z</dcterms:created>
  <dc:creator>Catherine Pilachowski</dc:creator>
  <dc:description/>
  <dc:language>en-US</dc:language>
  <cp:lastModifiedBy>LEGION</cp:lastModifiedBy>
  <dcterms:modified xsi:type="dcterms:W3CDTF">2018-03-22T08:49:35Z</dcterms:modified>
  <cp:revision>17</cp:revision>
  <dc:subject/>
  <dc:title>Slide 1</dc:title>
</cp:coreProperties>
</file>